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1B62-0485-4E90-A7D8-D23D1840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E4E3-9F7C-44C8-B2AE-829596A0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8222-F5DD-4E68-8945-0B8339FB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7E963-B914-466D-A640-162EA9ED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B7CB-AFF4-46EF-9FF6-A314EB87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9490-15F8-430A-89CE-7E3ED483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535D-2719-4F4A-B17A-EBCFE861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B019-666E-4154-835A-9681F413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1D74-2F15-4FC4-977A-1E5DA596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8C68-946E-482F-A93E-E05774B4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4385-73AE-4219-9E7D-7CEA9051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7C0C-92E4-4866-99BE-CAFA6B44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F687-A1AD-4B9D-8C30-6D1A1F1E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3C9D-2E65-4DC9-A161-F35AB453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A54C-073C-4ABB-A63C-EE986A1D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5C05-E08C-4C35-84B5-44FAA80A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4617-BEB2-46D8-A2CE-6AFBC8EA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5FF0-6184-47AD-9F15-8D63F3B7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EE82-8F60-42BE-A157-011B98AA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5D69B-F7BA-4859-A802-63A85432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5BDED-5862-463C-8B3E-1128CD4A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B0A0-BD3C-436C-90F8-376C315C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30D8-2604-4E11-804A-4569452D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79056-CB45-4F0A-B0E1-DAF8EE54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60C7-5F9F-45A3-BDBA-1505834228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AAC7-E0FE-42C0-AC5C-CCD1CEC877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ecrets of Message Box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5562720"/>
            <a:ext cx="1524240" cy="685800"/>
          </a:xfrm>
          <a:custGeom>
            <a:avLst/>
            <a:gdLst>
              <a:gd name="textAreaLeft" fmla="*/ 44280 w 1524240"/>
              <a:gd name="textAreaRight" fmla="*/ 1479960 w 1524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94" h="21600">
                <a:moveTo>
                  <a:pt x="0" y="0"/>
                </a:moveTo>
                <a:lnTo>
                  <a:pt x="47994" y="0"/>
                </a:lnTo>
                <a:lnTo>
                  <a:pt x="47994" y="21600"/>
                </a:lnTo>
                <a:lnTo>
                  <a:pt x="0" y="21600"/>
                </a:lnTo>
                <a:close/>
              </a:path>
              <a:path fill="lightenLess" w="47994" h="21600">
                <a:moveTo>
                  <a:pt x="0" y="0"/>
                </a:moveTo>
                <a:lnTo>
                  <a:pt x="47994" y="0"/>
                </a:lnTo>
                <a:lnTo>
                  <a:pt x="46594" y="1400"/>
                </a:lnTo>
                <a:lnTo>
                  <a:pt x="1400" y="1400"/>
                </a:lnTo>
                <a:close/>
              </a:path>
              <a:path fill="darken" w="47994" h="21600">
                <a:moveTo>
                  <a:pt x="47994" y="0"/>
                </a:moveTo>
                <a:lnTo>
                  <a:pt x="47994" y="21600"/>
                </a:lnTo>
                <a:lnTo>
                  <a:pt x="46594" y="20200"/>
                </a:lnTo>
                <a:lnTo>
                  <a:pt x="46594" y="1400"/>
                </a:lnTo>
                <a:close/>
              </a:path>
              <a:path fill="darkenLess" w="47994" h="21600">
                <a:moveTo>
                  <a:pt x="47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94" y="20200"/>
                </a:lnTo>
                <a:close/>
              </a:path>
              <a:path fill="lighten" w="47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et's 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ocolate -Yes -N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31240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t Program - Yes-N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962520"/>
            <a:ext cx="2057400" cy="99036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4864" h="21600">
                <a:moveTo>
                  <a:pt x="0" y="0"/>
                </a:moveTo>
                <a:lnTo>
                  <a:pt x="44864" y="0"/>
                </a:lnTo>
                <a:lnTo>
                  <a:pt x="44864" y="21600"/>
                </a:lnTo>
                <a:lnTo>
                  <a:pt x="0" y="21600"/>
                </a:lnTo>
                <a:close/>
              </a:path>
              <a:path fill="lightenLess" w="44864" h="21600">
                <a:moveTo>
                  <a:pt x="0" y="0"/>
                </a:moveTo>
                <a:lnTo>
                  <a:pt x="44864" y="0"/>
                </a:lnTo>
                <a:lnTo>
                  <a:pt x="43464" y="1400"/>
                </a:lnTo>
                <a:lnTo>
                  <a:pt x="1400" y="1400"/>
                </a:lnTo>
                <a:close/>
              </a:path>
              <a:path fill="darken" w="44864" h="21600">
                <a:moveTo>
                  <a:pt x="44864" y="0"/>
                </a:moveTo>
                <a:lnTo>
                  <a:pt x="44864" y="21600"/>
                </a:lnTo>
                <a:lnTo>
                  <a:pt x="43464" y="20200"/>
                </a:lnTo>
                <a:lnTo>
                  <a:pt x="43464" y="1400"/>
                </a:lnTo>
                <a:close/>
              </a:path>
              <a:path fill="darkenLess" w="44864" h="21600">
                <a:moveTo>
                  <a:pt x="44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64" y="20200"/>
                </a:lnTo>
                <a:close/>
              </a:path>
              <a:path fill="lighten" w="44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Q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4:55:54Z</dcterms:created>
  <dc:creator>jnatale</dc:creator>
  <dc:description/>
  <dc:language>en-US</dc:language>
  <cp:lastModifiedBy>jnatale</cp:lastModifiedBy>
  <dcterms:modified xsi:type="dcterms:W3CDTF">2009-02-19T15:07:44Z</dcterms:modified>
  <cp:revision>2</cp:revision>
  <dc:subject/>
  <dc:title>Secrets of Message Boxes</dc:title>
</cp:coreProperties>
</file>